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A871-247E-4FD9-87BA-2E21D3E1727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0526-8AC1-4EB7-9E30-76006E3A895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06F7-0E1C-4261-9A8E-A0B3A797660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F43-F69D-46B0-BF29-1532391AC6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4D29-2AC0-446C-8E6D-F7D634B7499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lrrpublic.cli.det.nsw.edu.au/lrrSecure/Sites/LRRView/7397/applets/Living_Things_Database/livingthings/lesson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17BA-E6EC-4474-8EEC-519B0045908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DB6D-C836-4C8E-9D9F-A97CB05F288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elmann’s experiments (1882);  stran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pirogyra (green alga), water, aerobic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D5C-5CFF-49D7-B8DA-583A9D1C53E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B50C-6B65-4187-813B-77E67A6E135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D250-0F8B-4DF8-8142-B765FB495C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8074-4B99-4387-A0B2-1665B1C62EC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DF19-DB56-47AE-ABBE-3D48BAA7432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B6AA-A13C-4FE3-A76B-ADDBAD2A9B7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DE79-493B-4198-8A79-B81815D745C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913-F964-49DD-82C8-F1E97BF1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1F5-6F29-40BE-9E4F-C34BCD11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76D-E051-4213-B873-FC43A127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069-8FEA-4851-9A5E-19B0D500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638-101B-47DD-88B4-B64B8CD1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1F86-E589-4AA9-BFAB-AF37CE94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477-AC7B-440F-BCEE-37FB32B5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BEA-D9B1-4EC6-A82A-64492C55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912-F61F-4DBF-A3BA-B5974150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6DE-369C-451D-A10A-95FFBF60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317-1269-464F-8509-F19CE8E0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911-5814-41AA-A1A1-B06DC25E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BD4C-A217-4CB2-95E7-64A484822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1_uez5WX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1_uez5WX1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3" descr="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an Helmont’s experiment (1648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457200" y="2001960"/>
            <a:ext cx="82296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complex organic molecules using energy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“fix”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3-04-02T13:32:32Z</dcterms:modified>
  <cp:revision>94</cp:revision>
  <dc:subject/>
  <dc:title>Slide 1</dc:title>
</cp:coreProperties>
</file>